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E93-4792-4036-B303-DD04166F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8C8-EC60-4D56-BF62-80F40F09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13A-668A-4BDB-B1C6-25ACEF6F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75D-1F21-4BC7-B01F-38090A1F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7D79-2F49-4A7F-9195-F60D3115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34C8-8533-4E4C-8AD1-A5D2146B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143A-19B3-464A-959C-524A8015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783A-2C1E-4827-BE26-573CD97D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1B34-E135-4F6B-8312-EC5BDDD4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50DC-D93B-4609-8C24-7B293856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806E-2D8E-48D6-A2D9-8CC770EB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BF8-4B16-4F29-9743-BE548169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1E90-E7C5-4896-B631-C00E50F3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502A-C8A7-4255-AB6E-5DF44387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322F-2257-4462-8A4F-4E22B8FE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7635-B085-4F4A-9D76-71BE9DF8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7ED9-CB37-4F24-B5EE-9ABD8BC1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2A67-69EF-4C16-AA92-D14E3676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2ED67-C7BE-4BF4-B5A4-75E9BBCF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7D42-6D12-4927-B163-B48CC68B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6BFB-E00D-48BF-B935-3E9F3CC4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BE2C-6A07-4F25-B746-AF3748E2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4C4-CB79-472D-9D53-23F64582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FCB8-BA95-426C-9997-7EB6F1ED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10CD-353C-4E68-B556-9CE21150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2074-1162-4079-9C49-176660DC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81355-059B-40CD-B072-C27B585D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67F0-A604-412A-8FAC-EAEDCE8A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2B39-2534-456F-9EDE-478F4BED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77D54-7057-47A6-837A-91F99DAA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E21C-EFC3-465E-AB24-8157535F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CFA0-6E57-422F-BDB1-54A63459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5CE2-3EC5-46EC-97EC-036C9D21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B8E-E9DE-4EBA-88CD-80705F13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EBF13-0780-49E0-A786-07642CE3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296B6-E812-4B0C-BD1B-69D5A82B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C29A7-9E6B-4618-9511-5876BE51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8648F-D616-4D6C-923F-9F3843F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0ACE8-9FA6-48A8-805B-6937E0C7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1898-C3C5-47CA-B448-10A53BC4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2D31-65B7-4567-BC23-87BF4ED1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229B1-115F-40AB-9F27-28DA1D52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8A9C-134E-4F48-BE63-A5616C57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42F2C-60C1-497C-9B58-1A566F33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3FE-BDCE-4380-AAC4-28B98C78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C3818-E7FA-411F-85DD-DFD88961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1695E-761A-490A-BC22-27695DD8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BD09C-FCF2-4F3F-9052-CB1B1565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6877E-73A0-4FB8-80E7-2A184A59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1DD42-733C-4FE8-9857-8391C359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087FC-69D1-45BC-9814-5CE34FC9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3207B-CDC7-4B11-87C7-E83004F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532C-F581-4C5C-9768-50D640CE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3F071-F14E-444C-90DD-619F0C44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C01E5-D767-4816-9281-22539CA3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C71-9F30-4819-8248-C9FB227C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73FC-5D20-4818-AFA2-8EE8D896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60970-7EF3-4F4D-B063-C0203279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0F6E1-8209-4D01-A95D-8CA95D93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8A84A-D21B-4CC8-8C40-E3DF402B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5484B-848F-44B6-A5D5-2C13C38D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0600B-98A8-4CF4-9B3A-0CBA42F9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5350C-CBE1-4EAA-B485-02AAB611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15901-5E22-438B-8613-223CAE29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5894E-A30C-4BD1-9347-39020E0E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C0964-3BB1-488B-AD47-C32C75FD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7C9-9499-43F5-91DB-13349485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F37CE-FCF9-4C3E-B1C3-66AFEDAC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281DA-5D25-4F9F-8FCD-7F8CD12A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83B33-4FDF-4773-AD4B-B4813145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449DC-93BB-4D25-807D-501723F5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1508E-88F6-4BB5-B247-B8ACEB87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579F4-2F1F-4571-9E08-78C16A8F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BB1EB-9B64-4881-97CF-16047DD4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5829E-DB29-414B-A31A-72F8B3F8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B792-7230-4072-B685-2DF468EA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7B05D-73A9-4777-8FA3-43F2A666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C98-D818-4BEA-A997-21A0259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99507-9F6B-485F-8363-32C23B7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E7BC4-E1FA-448B-B466-4525CEF0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8749-F47C-4FF2-AEC7-1BD41750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A5C44-3DC9-4725-8ACA-B0A493B3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55C25-1A2A-4E90-9245-6966CA97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4AC-7F1A-44F3-8B3B-EC5E0612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ABDD-42A6-44B4-91A3-DD55A3D1E24D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0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椭圆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2B94-20C5-4F46-B148-6C6F1B1166EF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2" name="椭圆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4703-08AA-4907-B3E7-15B3478F4EE8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9F4B-47BD-4C2E-B846-E68A89F804B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7FB5-E59F-445A-BAAF-CDB7058DEF9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8EE1-D70A-45F2-8EC2-9A87FFBB4FA8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7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AF5D-A4CB-4714-AE52-CDA959EAF079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小学语文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、教材、学情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解     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000160" y="4785840"/>
            <a:ext cx="667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中宋"/>
              </a:rPr>
              <a:t>——</a:t>
            </a: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西航港小学五年级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叶永珍  谢华琼  邓阳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三学段（五、六年级）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0080" y="1428480"/>
            <a:ext cx="7283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较强的独立识字能力。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硬笔书写楷书，行款整齐，有一定的速度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用毛笔书写楷书，在书写中体会汉字的美感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447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关键词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56800" y="761760"/>
            <a:ext cx="8286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数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六年总数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个左右常用汉字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质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提出“认识”和“学会”两种目标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兴趣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对学习汉字有浓厚的兴趣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习惯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养成主动识字的习惯。养成正确的书写姿势和良好的书写习惯，书写规范、端正、整洁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能力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“能借助汉语拼音认读汉字”，“掌握汉字的基本笔画和常用的偏旁部首”，“能用音序和部首检字法查字典”等。有较强的独立识字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6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方法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教法与学法（如看图识字、汉语拼音识字，归类识字、比较法识字、利用形声字的特点识字等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）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情感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喜欢学习汉字，有主动识字的愿望。初步感受汉字的形体美。在书写中体会汉字的美感。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关于数量目标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28800" y="1500120"/>
            <a:ext cx="8215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认识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600-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学会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800-1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71720" y="1642680"/>
            <a:ext cx="79293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    “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认识”和“学会”要求不同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会认的字”，只要求读准字音，不抄不默不考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学会的字”，要求能读准字音，认清字形，了解字词在语言环境中的意思，并能正确地书写。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eb80a"/>
                </a:solidFill>
                <a:latin typeface="华文中宋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认、写分流，多认少写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214280" y="6094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Times New Roman"/>
              </a:rPr>
              <a:t>关于质量目标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各学段写字教学的侧重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一学段：养成正确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姿势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和良好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习惯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书写规范、端正、整洁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二学段：能使用硬笔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熟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地书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正楷字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做到规范、端正、整洁，用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毛笔临摹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三学段：硬笔书写楷书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行款整齐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有一定的速度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；用毛笔书写楷书，在书写中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体会汉字的优美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宋体"/>
              </a:rPr>
              <a:t>学情分析：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71320" y="1599840"/>
            <a:ext cx="8358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通过前期的学习，学生已累计认识汉字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6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，学会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0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对学习汉字有浓厚的兴趣，养成了主动识字的习惯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;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会使用字典、 词典，有初步的独立识字能力。能使用硬笔熟练地书写正楷字，做到规范、端正、整洁。能用毛笔临摹正楷字帖。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2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Gill Sans MT"/>
              </a:rPr>
              <a:t>五年级识字与写字的主要任务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教什么）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28800" y="1295280"/>
            <a:ext cx="82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学生认字累计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；五年级下册要求学生认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5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独立识字学词，要继续坚持写好摘录笔记，还要向课外延伸积累字词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提高学生预防和纠正错别字的自觉性，培养学生与错别字做斗争的好习惯，习作错别字率不能大于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%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 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能用硬笔和毛笔书写楷书和对名家书法作品的临摹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五年级识字与写字教学实施建议</a:t>
            </a:r>
            <a:br>
              <a:rPr sz="3600"/>
            </a:b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（怎么教）</a:t>
            </a:r>
            <a:br>
              <a:rPr sz="18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（一）学会放手，培养学生独立识字的能力。</a:t>
            </a:r>
            <a:br>
              <a:rPr sz="36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在阅读教学过程中完成识字任务，加强对孩子的预习检查，保证自学的质量。要求学生带字典、词典进课堂，遇到问题，自己独立解决。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多种方法理解词语：</a:t>
            </a:r>
            <a:br>
              <a:rPr sz="4000"/>
            </a:br>
            <a:br>
              <a:rPr sz="40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在语境中学习、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联系生活经验进行联想和想象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根据汉字表义的特点，推知词义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运用工具书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向他人请教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检测方式：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听写、测试、竞赛等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70c0"/>
                </a:solidFill>
                <a:latin typeface="黑体"/>
                <a:ea typeface="黑体"/>
              </a:rPr>
              <a:t>二）</a:t>
            </a: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继续注重语言积累</a:t>
            </a:r>
            <a:r>
              <a:rPr b="0" lang="zh-CN" sz="3600" spc="-1" strike="noStrike">
                <a:solidFill>
                  <a:srgbClr val="0070c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写摘录笔记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。教材“语文天地”中“日积月累”第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题列出的是课文的重点词语，应在阅读时逐步理解体会；下面加线的是要求会写的词语，其余的要求会认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“日积月累”里还有向</a:t>
            </a:r>
            <a:r>
              <a:rPr b="0" lang="zh-CN" sz="3200" spc="-1" strike="noStrike">
                <a:solidFill>
                  <a:srgbClr val="c00000"/>
                </a:solidFill>
                <a:latin typeface="宋体"/>
              </a:rPr>
              <a:t>课外延伸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的积累词语的练习。本册教材要积累：“龙”、“角度”、“火”、“光”等成语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关注“金钥匙”。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叶公好龙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一课的“金钥匙”指出有些字古今字义大不同：比如“走”在古代是“跑”的意思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,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写”在古代是“画”的意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在课外阅读中勾画积累好词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70c0"/>
                </a:solidFill>
                <a:latin typeface="黑体"/>
                <a:ea typeface="黑体"/>
              </a:rPr>
              <a:t>（三）</a:t>
            </a:r>
            <a:r>
              <a:rPr b="1" lang="zh-CN" sz="3900" spc="-1" strike="noStrike">
                <a:solidFill>
                  <a:srgbClr val="0070c0"/>
                </a:solidFill>
                <a:latin typeface="宋体"/>
              </a:rPr>
              <a:t>继续加强写字指导，注重培养学生认认真真地写字，养成良好的写字习惯。</a:t>
            </a:r>
            <a:br>
              <a:rPr sz="39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课课有指导练习。（书空、在桌子上写、本子上写等）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作业写字提要求：书写规范、端正、整洁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评价：有评分等级，有长效奖励机制。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“增强书写意识” “提笔就是练字时”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（四）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继续关注学生的毛笔书写，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在书写中体会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汉字的优美 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，培养学生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审美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教材在第一单元展示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龙”字的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种写法让学生欣赏、感受中华文字及书法艺术的魅力。</a:t>
            </a:r>
            <a:br>
              <a:rPr sz="3200"/>
            </a:b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教师可组织一些生动有趣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书法欣赏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活动或交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名人写字小故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或开展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班级书法赛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，使学生具有初步书法欣赏能力，提高学生的审美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如何预防和纠正错别字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71360" y="164304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一、错别字的类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一）错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笔画错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形近混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二）别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Gill Sans MT"/>
              </a:rPr>
              <a:t>二、错别字产生的原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0c0"/>
                </a:solidFill>
                <a:latin typeface="Gill Sans MT"/>
              </a:rPr>
              <a:t>三、教学对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00080" y="990720"/>
            <a:ext cx="8143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一）教学前要有预见性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例如：五年级下册第三单元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古诗二首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“缘”字笔顺较为繁琐，学生容易把右上部分写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教师教学时使学生从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一开始就意识到哪些地方容易写错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在写字的时候就会格外注意，就可以降低错误率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二）利用汉字规律联想识字。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比较字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放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游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东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练” 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多观察、多比较、多分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了解字义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幕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色”的“暮”是傍晚，“暮色”是傍晚昏暗的天色。   “夜幕”的“幕”是覆盖在上面的帐篷，在夜间景物像被一幅大幕罩住一样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形义结合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暇”的“日”字旁写成“目”字旁“暇”是指空闲的时候，与时间有关，所以应该是“日”字旁，这类字有：暮、晌、昔、昏等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目”字旁与眼睛有关，这类字有：睁、睹、瞧、眨等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三）利用口诀、歌词帮助识记难字和轻易混淆的字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裕”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有衣穿，有饭吃，生活就富裕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”与“幸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苦一点，幸福十分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感兴趣，学得快，也记得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Gill Sans MT"/>
              </a:rPr>
              <a:t>（四）建立“错别字医院”。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在专门的一本小册子里，写出自己写错、用错的字错在何处，找到病因后再订正、组词或解释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对记录下来的字，定期进行矫正训练，要求同学之间互测互评，每人只测自己错过的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28800" y="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五）培养查字典的习惯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带字典或词典进课堂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经常训练，经常检查，持之以恒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六）密切联系实际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课堂上无论交流什么，碰到易混淆的，哪怕是一个字、一个词也别光说不写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每次作业要及时检查，及时纠正作业中的错别字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带普遍性的错字词，要发动学生讨论如何解决问题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习作（包括自读的笔记、日记）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自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互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批阅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修改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928800" y="0"/>
            <a:ext cx="8215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七）实践体验，变被动为主动。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 开展多种活动： 同学之间互找错别字，在黑板上展示错别字，互批互改作文等，从中评选出“谁是改错大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榜样法：对于不写错别字的同学进行表扬、奖励，从而来矫正小学生的错别字现象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71480" y="27144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2714400"/>
            <a:ext cx="765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一、课标对“口语交际”的要求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总目标第九条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具有日常口语交际的基本能力，学会倾听、表达与交流，初步学会运用口头语言文明地进行人际沟通和社会交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一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1-2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28800" y="128556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学说普通话，逐步养成讲普通话的习惯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认真听别人讲话，努力了解讲话的主要内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听故事、看音像作品，能复述大意和自己感兴趣的情节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较完整地讲述小故事，能简要讲述自己感兴趣的见闻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与别人交谈，态度自然大方，有礼貌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有表达的自信心。积极参加讨论，敢于发表自己的意见</a:t>
            </a:r>
            <a:r>
              <a:rPr b="0" lang="zh-CN" sz="25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二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3-4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用普通话交谈。学会认真倾听，能就不理解的地方向人请教，就不同的意见与人商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听人说话能把握主要内容，并能简要转述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清楚明白地讲述见闻，说出自己的感受和想法。讲述故事力求具体生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第三学段（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5-6</a:t>
            </a: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与人交流能尊重和理解对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乐于参与讨论，敢于发表自己的意见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听人说话认真、耐心，能抓住要点，并能简要转述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表达有条理，语气、语调适当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能根据对象和场合，稍作准备，作简单的发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注意语言美，抵制不文明的语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7658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口语交际”关键知识点在各年段呈现的序列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71720" y="1158840"/>
          <a:ext cx="7657920" cy="5430960"/>
        </p:xfrm>
        <a:graphic>
          <a:graphicData uri="http://schemas.openxmlformats.org/drawingml/2006/table">
            <a:tbl>
              <a:tblPr/>
              <a:tblGrid>
                <a:gridCol w="1395360"/>
                <a:gridCol w="626256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一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听、讲故事中培养学生口语表达的自信心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二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完整地讲述和句式表达训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三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清楚明白地讲述见闻或感受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四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对不同意见进行商讨和辩论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Gill Sans MT"/>
                          <a:ea typeface="华文中宋"/>
                        </a:rPr>
                        <a:t>五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六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语文综合实践活动中对口语表达的综合运用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畅所欲言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讲述与“龙”有关的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评议“从不同角度看问题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四单元：讨论“真诚表现在哪里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讨论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五单元：说说我的心愿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评议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这个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讲述有关火的神话故事和说说各种灯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讲不怕鬼的故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初显身手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查阅资料，对搜集的信息进行整理，与同学进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行交流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交流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从不同的角度看同一事物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……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谈谈自己选择这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些景物的想法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表演课本剧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晏子使楚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或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表演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向同学介绍自己最想发明的灯的特点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介绍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谈谈我对所谓“特异功能”的看法。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1071720" y="5786280"/>
            <a:ext cx="67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0c0"/>
                </a:solidFill>
                <a:latin typeface="Cambria"/>
              </a:rPr>
              <a:t>认真倾听和有条理地表达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3920" y="785520"/>
            <a:ext cx="77295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72314"/>
                </a:solidFill>
                <a:latin typeface="Gill Sans MT"/>
              </a:rPr>
              <a:t>综合活动：</a:t>
            </a:r>
            <a:br>
              <a:rPr sz="39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70904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二单元：举行读书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六单元：开劳动恳谈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十单元：我们去旅行和期末总结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2769480" y="4214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70c0"/>
                </a:solidFill>
                <a:latin typeface="Cambria"/>
              </a:rPr>
              <a:t>综合表达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年级口语交际的关键知识点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00080" y="2332080"/>
            <a:ext cx="75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倾听别人意见，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有条理地表达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初步学习在综合活动过程中文明地进行口语交际实践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学生是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语文实践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口语交际的，是听与说双方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互动过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教学活动主要应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具体的交际情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，不宜采用大量讲授口语交际原则、要领的方式。应努力选择贴近生活的话题，采用灵活的形式组织教学。 在教学的全程中关注学生的口语交际活动，特别是要培养学生的对方意识，倾听别人的意见，根据对方的发言及态度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一、课程性质</a:t>
            </a:r>
            <a:br>
              <a:rPr sz="3900"/>
            </a:b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356840" y="2643120"/>
            <a:ext cx="749772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 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聚焦于“语言文字运用”， 努力体现语文课程的实践性和综合性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情分析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经过四年多的学习，五年级的学生已经具备一定的口语交际能力。大部分学生能较为自信地表达，且具有一定的倾听习惯，讲述也较为完整。但是大部分学生还不能有条理地表达自己的感受，在倾听别人的发言时，还不能准确、快速地抓住要点进行评议。当然，还是有部分学生的口语表达能力较差，平时的发言次数或机会太少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1071720" y="41432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mbria"/>
              </a:rPr>
              <a:t>学生主持→明确要求→小组讨论→全班交流→师生总结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案例呈现：“龙”的故事会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1356840"/>
            <a:ext cx="82152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内容：</a:t>
            </a:r>
            <a:br>
              <a:rPr sz="2700"/>
            </a:b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交流与“龙”相关的故事、工艺品、特产、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名等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目标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交流与“龙”相关的故事、工艺品、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特产、地名等，体会龙的象征意义，激发学生作为龙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的传人的民族自豪感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继续培养学生认真倾听的习惯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的讲述与交流，培养学生有条理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进行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重难点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  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通过学生的讲述与交流，培养学生有条理地进行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Gill Sans MT"/>
              </a:rPr>
              <a:t>教学过程：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导入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14280" y="1428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00000"/>
                </a:solidFill>
                <a:latin typeface="Gill Sans MT"/>
              </a:rPr>
              <a:t>主持人开场白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同学们，龙是威力无比、变幻万千、无所不能的。它上能腾云驾雾，显露云端；下能呼风唤雨，潜入深渊。龙是至高无上权利的象征，又是祥和幸福，欢腾自由的体现。龙更是我们中国人对自由完美的向往和追求。我们作为龙的传人，有必要去了解有关龙的故事和文化。下面，我宣布“龙”的故事会现在开始。首先有请邓老师为本次活动提要求。掌声欢迎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明确要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小组交流完毕以后，要对发言人的讲述做重点指导，让他讲述的故事变得更加具体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在全班交流时，讲述人一定要做到声音洪亮，自然大方，并且可以适当添加一些肢体语言让讲述更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发言人在讲述时要注意有条理地表达。（讲述故事时，要讲清楚故事的起因、经过、结果；介绍工艺品或特产地名时，要按照一定的顺序等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同学们在听讲述时一定要做到认真倾听，并积极参与互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7030a0"/>
                </a:solidFill>
                <a:latin typeface="Gill Sans MT"/>
              </a:rPr>
              <a:t>三、小组讨论交流，做准备。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       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根据实际交流情况推选出小组重点发言人，并帮助发言人做好全班交流的准备。</a:t>
            </a:r>
            <a:br>
              <a:rPr sz="3900"/>
            </a:b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00080" y="3000240"/>
            <a:ext cx="76867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7030a0"/>
                </a:solidFill>
                <a:latin typeface="华文中宋"/>
              </a:rPr>
              <a:t>四、全班交流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各小组发言人做全班交流，同学对讲述做评价，对不同的评价意见，主持人还可以引导辩论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、师生总结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主持人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，我们作为龙的传人，必将秉承龙的精神，去搏击万里长空，去迎接旭日东升。相信通过我们的努力，将来一定能展示出我们中国龙的风采。齐唱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龙的传人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老师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今天的故事会开得很成功，讲述都很精彩。大部分同学都很认真地倾听，参与互动也很积极。讲述的同学如果在讲述的过程中强调一些表示顺序的词语，语言再生动一些，配合自己的表情和肢体语言，相信你们的讲述会更精彩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结合语文课的各种课型培养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利用“畅所欲言”和“初显身手”板块，集中训练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Gill Sans MT"/>
              </a:rPr>
              <a:t>学生主持→明确要求→小组讨论→全班交流→师生总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1500120" y="4786200"/>
            <a:ext cx="7429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利用综合活动，初步培养学生的综合表达能力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环节两时段两总结”的语文综合活动课堂表达模式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9720" y="1885680"/>
            <a:ext cx="77151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所谓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三环节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：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合作分工，制定计划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调查实践，资料搜集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课堂汇报，评价提升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时段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课内表达和课外表达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总结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自我总结和教师总结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二、课程基本理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2848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1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语文教育的目的是“全面提高学生的语文素养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2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前提是“正确把握语文教育的特点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3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策略是“积极倡导自主、合作、探究的学习方式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4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保障是“努力建设开放而有活力的语文课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合作分工，制定计划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主题，共同确定计划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讨论问题、总结归纳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组员情况对计划任务进行分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主动申请、共同协商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梳理实施计划任务时要注意的一些问题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梳理问题、补充问题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调查实践，资料搜集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按计划分工进行实践调查，资料搜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有礼貌地与他人交流、提问题的准确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汇总，资料梳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表达的准确性和条理性，总结表达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8480" y="4996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、课堂汇报，评价提升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5684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交流汇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规范汇报方式和汇报语言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生生评价互动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训练学生评价语言的规范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两总结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00080" y="1714320"/>
            <a:ext cx="814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学生自我总结和教师总结相结合。   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口语交际要点：学生和教师总结活动过程中表达方面的优点和不足之处）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28840" y="1213920"/>
            <a:ext cx="82152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200" spc="-1" strike="noStrike">
                <a:solidFill>
                  <a:srgbClr val="0070c0"/>
                </a:solidFill>
                <a:latin typeface="Gill Sans MT"/>
              </a:rPr>
              <a:t>谢谢！</a:t>
            </a:r>
            <a:endParaRPr b="0" lang="en-US" sz="2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Gill Sans MT"/>
              </a:rPr>
              <a:t>三、课程设计思路</a:t>
            </a:r>
            <a:br>
              <a:rPr sz="54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28480" y="2428560"/>
            <a:ext cx="74977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学段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五个板块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建议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71480" y="235692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一学段（一、二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28800" y="1250640"/>
            <a:ext cx="82152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喜欢学习汉字，有主动识字的愿望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认识常用汉字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6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8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掌握汉字的基本笔画和常用的偏旁部首，能按笔顺规则用硬笔写字，注意间架结构。初步感受汉字的形体美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养成正确的书写姿势和良好的书写习惯，书写规范、端正、整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学会汉语拼音。能读准声母、韵母、声调和整体认读音节。能准确地拼读音节，正确书写声母、韵母和音节。认识大写字母，熟记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汉语拼音字母表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能借助汉语拼音认读汉字。能用音序和部首检字法查字典，学习独立识字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二学段（三、四年级）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1428480"/>
            <a:ext cx="82152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对学习汉字有浓厚的兴趣，养成主动识字的习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会使用字典、词典，有初步的独立识字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使用硬笔熟练地书写正楷字，做到规范、端正、整洁。用毛笔临摹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条件的地方，可学习使用键盘输入汉字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12:33:01Z</dcterms:created>
  <dc:creator>Administrator</dc:creator>
  <dc:description/>
  <cp:keywords/>
  <dc:language>en-US</dc:language>
  <cp:lastModifiedBy>china</cp:lastModifiedBy>
  <dcterms:modified xsi:type="dcterms:W3CDTF">2016-03-13T12:58:48Z</dcterms:modified>
  <cp:revision>116</cp:revision>
  <dc:subject/>
  <dc:title>小学语文课标暨教材解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